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FE61-6D12-442D-9104-CB93D451AF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9A70-AA7D-4731-A18C-9FEB961035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DC3D-4A07-4376-8089-414928AAE04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9252-6B41-4D2C-AA7D-08B1719325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55B-B17A-4286-867E-44DAA1BD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45F-49CC-4A05-9B94-2DBAA427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C00-C105-4AF5-8961-66D258F1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E91-72E5-47C2-A59C-CB42BA65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1A54-D75B-4C32-8873-1623B0A1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C9DE-8D0D-4301-A6B1-C247200A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9A83-DD90-4675-8A28-9180A144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DA46-7264-4EF3-BEC3-53368421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9615-63AA-4107-B879-91BF6D63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25F3-FD7B-4E30-9677-7B5589D5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CC7F-844B-4790-8CDF-C0A5771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026-229F-475A-93DA-8B9A0A36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7264-441F-4354-96C3-9EF5EF16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A738-59E5-486A-BBAA-5D82F255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BA27-3856-4A10-AA29-9BA6A8CA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F7D0-0885-42D6-A8B0-31BB5180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D7C9-D20A-41B3-8530-E60BAC12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347F-5AAF-41E1-BB46-4139D6B6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1A5D-65F3-4DAE-B03A-C1F7822A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6165-D325-49A3-97F7-8C2CBCC0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3476-1D8F-4A87-ACBB-D9A4021D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4102-889F-4B6E-AED7-442400A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7B8-18EE-4D45-9662-8ECFCE0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1B4D-A8CE-4632-A552-9B4A9DBD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8DC7-AC4D-4874-A9C6-1FE89DA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1A07-471E-4B16-AAE2-FAFD270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88A3C-D97C-45FE-B0F0-00022844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E36B-63CD-4212-893A-A47141CC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B078-CFA8-4FC1-8E75-3D192643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8A03-AA77-4E61-8AD8-1F2AB637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3F82-EAFF-4093-A663-3D752F5E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8D642-B364-447B-965B-379F88AD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FA9B3-4EC9-4A35-8AF8-49811835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A4A-1094-44F9-870D-F23419C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6BEE-E2B2-4817-AFA4-0E1E2A5E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64FE-A8A6-4359-B033-2082BCCF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0A1F-5E4A-438F-9CBE-A9EA481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0AB7-C1C0-4F0A-93E5-64D0E6C3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F3A1E-0571-4592-9318-0A1C0B7B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6211-42BD-4374-A30F-B8751F73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6D7C-0FDA-4ABF-8283-424C0DCC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34D6-D563-4C6F-B42B-58171343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40A8-0C38-4E0C-8FDC-CBA21F8F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E06-E2E3-411E-BCD8-D3D7B841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8EF-CFFB-49C9-A4B8-D926A93E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39C-5395-4B73-AC07-D3B3FD44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661-F620-4283-A352-1181AC0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677-B401-4049-A6FF-A7DB0F35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6A02-FE83-4C10-B7AD-FD8748EE6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AC1F-CD52-42E1-AA57-A231F5F93C2A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7365-BE23-4CDF-A3EB-8FFDA2A08B4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C1B1-B1A6-46DF-8E25-4C38942A3595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383A-D2C9-485F-9537-8EA9B1C7BDB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8D02-D871-458C-8D12-D33ADFE60B4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t.wikipedia.org/wiki/Lingua_ceca" TargetMode="External"/><Relationship Id="rId2" Type="http://schemas.openxmlformats.org/officeDocument/2006/relationships/hyperlink" Target="http://it.wikipedia.org/wiki/Macchina" TargetMode="External"/><Relationship Id="rId3" Type="http://schemas.openxmlformats.org/officeDocument/2006/relationships/hyperlink" Target="http://it.wikipedia.org/wiki/Antropomorfismo" TargetMode="External"/><Relationship Id="rId4" Type="http://schemas.openxmlformats.org/officeDocument/2006/relationships/hyperlink" Target="http://it.wikipedia.org/wiki/Uomo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t.wikipedia.org/wiki/Fantascienza" TargetMode="External"/><Relationship Id="rId2" Type="http://schemas.openxmlformats.org/officeDocument/2006/relationships/hyperlink" Target="http://it.wikipedia.org/wiki/Stargate_SG-1" TargetMode="External"/><Relationship Id="rId3" Type="http://schemas.openxmlformats.org/officeDocument/2006/relationships/hyperlink" Target="http://it.wikipedia.org/wiki/Stargate_Atlantis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t.wikipedia.org/wiki/Umanoide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L A FANTASCIEN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7" descr="star_wars_03_1024"/>
          <p:cNvPicPr/>
          <p:nvPr/>
        </p:nvPicPr>
        <p:blipFill>
          <a:blip r:embed="rId1"/>
          <a:stretch/>
        </p:blipFill>
        <p:spPr>
          <a:xfrm>
            <a:off x="1476360" y="2708280"/>
            <a:ext cx="3781440" cy="33130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Segnaposto contenuto 3" descr="astron.jpg"/>
          <p:cNvPicPr/>
          <p:nvPr/>
        </p:nvPicPr>
        <p:blipFill>
          <a:blip r:embed="rId1"/>
          <a:stretch/>
        </p:blipFill>
        <p:spPr>
          <a:xfrm>
            <a:off x="1979640" y="2060640"/>
            <a:ext cx="489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 personag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ssono essere uomini, animali, macchine (come ad esempio i robot o i computer) o creature immagina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“strano”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ossia lo sconosciuto, il diverso, che è uno degli ingredienti più avvincenti dei racconti di fantascien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ROB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Marco\Desktop\asimo.jpg"/>
          <p:cNvPicPr/>
          <p:nvPr/>
        </p:nvPicPr>
        <p:blipFill>
          <a:blip r:embed="rId1"/>
          <a:stretch/>
        </p:blipFill>
        <p:spPr>
          <a:xfrm>
            <a:off x="2963880" y="1600200"/>
            <a:ext cx="321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ROB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robot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pron.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ròbot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robòt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dalla parola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ecoslovacc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robot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che significa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lavoro pesant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 è una qualsiasi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acchin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di forma più o meno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ntropomorf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, in grado di svolgere più o meno indipendentemente un lavoro al posto dell'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uom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EPLICA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EPLICANT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ono una razza aliena immaginaria apparsa nelle serie di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antascienz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targate SG-1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targate Atlantis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Segnaposto contenuto 5" descr="stargate.jpg"/>
          <p:cNvPicPr/>
          <p:nvPr/>
        </p:nvPicPr>
        <p:blipFill>
          <a:blip r:embed="rId4"/>
          <a:stretch/>
        </p:blipFill>
        <p:spPr>
          <a:xfrm>
            <a:off x="1979640" y="2133720"/>
            <a:ext cx="4608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MUTAN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mutanti sono delle creature (in genere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manoid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), che grazie a mutazioni del proprio DNA - incidentali o create appositamente in laboratorio - assumono, fin dalla nascita, delle caratteristiche diverse da quelle degli individui normali, o degli esseri viventi della medesima specie, generalmente conferendo loro abilità superiori, capacità atipiche per la specie a cui appartengono o facoltà al di sopra dell'ordinario (poteri o superpote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alcuni casi vengono caratterizzati da un aspetto mostruos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MUTAN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Segnaposto contenuto 3" descr="New-Mutants-la-Fox-prepara-il-film-sui-Nuovi-Mutanti.jpg"/>
          <p:cNvPicPr/>
          <p:nvPr/>
        </p:nvPicPr>
        <p:blipFill>
          <a:blip r:embed="rId1"/>
          <a:stretch/>
        </p:blipFill>
        <p:spPr>
          <a:xfrm>
            <a:off x="2843280" y="1628640"/>
            <a:ext cx="2959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04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YBORG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n personaggio cyborg della serie televisiva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Star Trek: The Next Generatio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Locutus dei Borg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Segnaposto contenuto 6" descr="220px-Jean-Luc_Picard_as_Borg.jpg"/>
          <p:cNvPicPr/>
          <p:nvPr/>
        </p:nvPicPr>
        <p:blipFill>
          <a:blip r:embed="rId1"/>
          <a:stretch/>
        </p:blipFill>
        <p:spPr>
          <a:xfrm>
            <a:off x="2987640" y="2492280"/>
            <a:ext cx="2887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CYB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termine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yborg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organismo cibernetic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anche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organism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bionic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 indica l'unione omeostatica costituita da elementi artificiali e un organismo biologico. Nasce dalla contrazione dell'inglese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cybernetic organism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per l'appunto organismo ciberne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Esempio: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l protagonista del film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RoboCop - Il futuro della legg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è un poliziotto che, ucciso in servizio, viene fatto resuscitare trasformato in cybor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protagonista di Io, Robot, l'agente di polizia Del Spooner, ha un braccio e altri organi cibernet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genere fantascientif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197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sce nel 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1926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quando negli Stati Uniti si pubblica per la prima volta una rivista specializzata in racconti di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cience fictio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termine inglese per fantascienz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’ un GENERE LETTERARIO in cui si fondono SCIENZA e FANTAS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rende racconti o romanzi che nei confronti del progresso tecnologico manifestan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iducia ottimis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da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JAIME!!!!La donna bionica!!</a:t>
            </a:r>
            <a:br>
              <a:rPr sz="44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 seguito ad una caduta con il paracadute, le vennero  sostituiti un braccio, una gamba, l’orecchio destro con arti bionic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venne un agente segreto con missioni pericolose e diffici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Segnaposto contenuto 3" descr="donna bionica.jpg"/>
          <p:cNvPicPr/>
          <p:nvPr/>
        </p:nvPicPr>
        <p:blipFill>
          <a:blip r:embed="rId1"/>
          <a:stretch/>
        </p:blipFill>
        <p:spPr>
          <a:xfrm>
            <a:off x="2050920" y="2421000"/>
            <a:ext cx="47358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LIENI</a:t>
            </a: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na forma di vita non originaria del pianeta Ter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Segnaposto contenuto 4" descr="Alieni-in-soffitta-Robert-Hoffman-Ashley-Tisdale-59_mid.jpg"/>
          <p:cNvPicPr/>
          <p:nvPr/>
        </p:nvPicPr>
        <p:blipFill>
          <a:blip r:embed="rId1"/>
          <a:stretch/>
        </p:blipFill>
        <p:spPr>
          <a:xfrm>
            <a:off x="507960" y="1627200"/>
            <a:ext cx="8128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linguagg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62120" y="1483920"/>
            <a:ext cx="7619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ricco di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termini specialistici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lle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scienz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e in particolare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dell’informatica, della genetica, dell’astronomia, dell’ingegneria spaziale e della ciberneti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l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ritm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del racconto è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viva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(sequenze narrative alternate a quelle descrit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dialog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un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elemento important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l racconto. Serve a svelare enigmi o a spiegare ipotesi scientifiche su cui si basa l’intrec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La strut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me nel racconto d’avventura, è caratterizzata dall’intrecci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vremo quindi salti cronologici con flashback e anticipazioni (flashforwa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Le tecniche 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e principali tecniche narrative son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incalz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dato dal predominare di sequenze narrative e dialog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uspens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un artificio narrativo grazie al quale si tiene viva l’attenzione del lettore, catturato dal desiderio di sapere cosa sta per accad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narrat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25142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l narratore può esse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ossia uno dei personaggi e quindi direttamente partecipe dell’azione; scrive in prima perso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ter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scrive in terza perso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i au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24000" y="15616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ima fantascienza fa emergere dalle prime conoscenze realmente "scientifiche“ le proiezione di timori e pericoli della scien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79280" y="2932200"/>
            <a:ext cx="28083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Frankenstein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1818) di Mary W. Shelle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79280" y="4076640"/>
            <a:ext cx="398160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Lo strano caso del dottor Jekyll e Mister Hyd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(1886) di Robert Louis Stevenson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1" descr="frankenstein"/>
          <p:cNvPicPr/>
          <p:nvPr/>
        </p:nvPicPr>
        <p:blipFill>
          <a:blip r:embed="rId1"/>
          <a:stretch/>
        </p:blipFill>
        <p:spPr>
          <a:xfrm>
            <a:off x="5580000" y="3068640"/>
            <a:ext cx="2282760" cy="29527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25" name="Picture 14" descr="20307"/>
          <p:cNvPicPr/>
          <p:nvPr/>
        </p:nvPicPr>
        <p:blipFill>
          <a:blip r:embed="rId2"/>
          <a:stretch/>
        </p:blipFill>
        <p:spPr>
          <a:xfrm>
            <a:off x="5724360" y="2997360"/>
            <a:ext cx="2089440" cy="298440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7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es Ver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79280" y="1606680"/>
            <a:ext cx="53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ue macchine non erano frutto di pura immaginazione ma di intuizioni e studi realistici fondati sulle scienze e sulla tecnica dell'epo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sommergibile del capitano Ne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'apparecchio volante di Robu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mezzi per le ricerche subacque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veicoli spazia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missili teleguidat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rasmissioni telefoniche e televi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546588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o questa immensa fiducia nel progresso e questo generale ottimismo sono alla base di tutta la narrativa fantascientifica. restando per lo più legato alla propria epoca senza ipotizzare cambiamenti soc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jules-verne"/>
          <p:cNvPicPr/>
          <p:nvPr/>
        </p:nvPicPr>
        <p:blipFill>
          <a:blip r:embed="rId1"/>
          <a:stretch/>
        </p:blipFill>
        <p:spPr>
          <a:xfrm>
            <a:off x="6156360" y="2708280"/>
            <a:ext cx="2076480" cy="18478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G. Wells (1866 - 1946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11" descr="time"/>
          <p:cNvPicPr/>
          <p:nvPr/>
        </p:nvPicPr>
        <p:blipFill>
          <a:blip r:embed="rId1"/>
          <a:stretch/>
        </p:blipFill>
        <p:spPr>
          <a:xfrm>
            <a:off x="900000" y="3789360"/>
            <a:ext cx="1714680" cy="24764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232" name="Rectangle 5"/>
          <p:cNvSpPr/>
          <p:nvPr/>
        </p:nvSpPr>
        <p:spPr>
          <a:xfrm>
            <a:off x="179280" y="102096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"scientific romances" di H. G. Wells sono più aperti verso l'immaginazione fantastica e l'estrapolazione sociale. Egli inventa con notevole fantasia il "suo futuro" lasciando sullo sfondo l'aspetto propriamente scienti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9280" y="2244960"/>
            <a:ext cx="504036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suo primo romanz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cchina del Temp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prime il suo senso del futuro e la coscienza delle ingiustizie soc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140360" y="5378760"/>
            <a:ext cx="496872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dei mon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l 1898, ove faranno la loro comparsa gli alieni, i Marziani che invadono la t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9" descr="wells"/>
          <p:cNvPicPr/>
          <p:nvPr/>
        </p:nvPicPr>
        <p:blipFill>
          <a:blip r:embed="rId2"/>
          <a:stretch/>
        </p:blipFill>
        <p:spPr>
          <a:xfrm>
            <a:off x="6029280" y="2492280"/>
            <a:ext cx="2143080" cy="27352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36" name="Picture 14" descr="hg_wells"/>
          <p:cNvPicPr/>
          <p:nvPr/>
        </p:nvPicPr>
        <p:blipFill>
          <a:blip r:embed="rId3"/>
          <a:stretch/>
        </p:blipFill>
        <p:spPr>
          <a:xfrm>
            <a:off x="271440" y="3789360"/>
            <a:ext cx="3724200" cy="25239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Asimov (1920 – 199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082704-asimov"/>
          <p:cNvPicPr/>
          <p:nvPr/>
        </p:nvPicPr>
        <p:blipFill>
          <a:blip r:embed="rId1"/>
          <a:stretch/>
        </p:blipFill>
        <p:spPr>
          <a:xfrm>
            <a:off x="6227640" y="2205000"/>
            <a:ext cx="1590840" cy="20858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39" name="Picture 11" descr="20040525-yo_robot"/>
          <p:cNvPicPr/>
          <p:nvPr/>
        </p:nvPicPr>
        <p:blipFill>
          <a:blip r:embed="rId2"/>
          <a:stretch/>
        </p:blipFill>
        <p:spPr>
          <a:xfrm>
            <a:off x="6588000" y="4508640"/>
            <a:ext cx="1351080" cy="21859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40" name="Picture 14" descr="ASIMOV_abissi0"/>
          <p:cNvPicPr/>
          <p:nvPr/>
        </p:nvPicPr>
        <p:blipFill>
          <a:blip r:embed="rId3"/>
          <a:stretch/>
        </p:blipFill>
        <p:spPr>
          <a:xfrm>
            <a:off x="900000" y="4365720"/>
            <a:ext cx="1297080" cy="21873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241" name="Rectangle 5"/>
          <p:cNvSpPr/>
          <p:nvPr/>
        </p:nvSpPr>
        <p:spPr>
          <a:xfrm>
            <a:off x="395280" y="13924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mov è un creatore geniale di intrecci, e il finale a sorpresa che egli adopera è tipico del genere "giallo", o polizies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431640" y="2130120"/>
            <a:ext cx="457200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ssi d'accia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ole nud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tra i migliori gialli fantascientifici con esempi di "delitto perfetto" e di indagini polizies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7" descr="ASIMOV_sole0"/>
          <p:cNvPicPr/>
          <p:nvPr/>
        </p:nvPicPr>
        <p:blipFill>
          <a:blip r:embed="rId4"/>
          <a:stretch/>
        </p:blipFill>
        <p:spPr>
          <a:xfrm>
            <a:off x="3851280" y="4437000"/>
            <a:ext cx="1281240" cy="21877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ter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20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termin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“fantascienza” è dato dall’unione di due nom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fanta[sia] + sci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endo da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potesi scientifiche o tecnologich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li autori costruiscono romanzi e racconti che ipotizzano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mondi o realtà divers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creati dalla fantasia, ma allo stesso tempo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credibil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antascienza non è Fanta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79280" y="1341360"/>
            <a:ext cx="8642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lemento fantastico è preponder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icende si svolgono in mondi immaginari diversi dal nost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icende sono caratterizzate dall'uso della mag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sono presenti eroi epici con una missione da compie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presenti creature mitologiche, quali ad esempio draghi ed unicor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Fanta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9" descr="poster_il-signore-degli-anelli-il-ritorno-del-re"/>
          <p:cNvPicPr/>
          <p:nvPr/>
        </p:nvPicPr>
        <p:blipFill>
          <a:blip r:embed="rId1"/>
          <a:stretch/>
        </p:blipFill>
        <p:spPr>
          <a:xfrm>
            <a:off x="684360" y="1557360"/>
            <a:ext cx="3240000" cy="45687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181" name="Picture 11" descr="fant4"/>
          <p:cNvPicPr/>
          <p:nvPr/>
        </p:nvPicPr>
        <p:blipFill>
          <a:blip r:embed="rId2"/>
          <a:stretch/>
        </p:blipFill>
        <p:spPr>
          <a:xfrm>
            <a:off x="4835520" y="1628640"/>
            <a:ext cx="3660840" cy="44974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9"/>
          <p:cNvSpPr/>
          <p:nvPr/>
        </p:nvSpPr>
        <p:spPr>
          <a:xfrm>
            <a:off x="468360" y="1628640"/>
            <a:ext cx="81360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tascienza tecnologica come letteratura che esalta lo sviluppo della tecnolo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611280" y="765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UE GRANDI FILONI DELLA FANTASCIENZ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22200" y="3213000"/>
            <a:ext cx="84978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tascienza sociologica come letteratura che mette in guardia contro le più pericolose tendenze attuali della sc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tempo della narr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tempo della narrazione è quasi sempre il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FUTUR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uò comunque accadere ch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l presente, oppure il passato e il futuro vengano mescolati insieme attraverso un espediente, quello della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macchina del temp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it-IT" sz="4400" spc="-1" strike="noStrike">
                <a:solidFill>
                  <a:srgbClr val="ff0000"/>
                </a:solidFill>
                <a:latin typeface="Verdana"/>
              </a:rPr>
              <a:t>luoghi</a:t>
            </a: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 della narr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762120" y="1773000"/>
            <a:ext cx="7619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ssono esse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la Terr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immaginata nella sua realtà quotidiana o in situazioni estreme (guerre, esplosioni nucleari, disastri ambienta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gli spazi extraterrestr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altri pianeti, altre galassie descritti in base a conoscenze scientifiche reali o del tutto immaginar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astronavi, stazioni orbitanti, centri di ricerc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che collocati sotto la superficie terrest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l primo caso il lettore viene tranquillizzato, sentendosi a suo agio in luoghi a lui noti. Così maggiore sarà la sua sorpresa a mano a mano che il racconto comincerà a sviluppar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do invece i luoghi della narrazione sono gli spazi extraterrestri, da subito compaiono il mistero e il pericol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Segnaposto contenuto 3" descr="astronave.png"/>
          <p:cNvPicPr/>
          <p:nvPr/>
        </p:nvPicPr>
        <p:blipFill>
          <a:blip r:embed="rId1"/>
          <a:stretch/>
        </p:blipFill>
        <p:spPr>
          <a:xfrm>
            <a:off x="2050920" y="1989000"/>
            <a:ext cx="43214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7:01:36Z</dcterms:created>
  <dc:creator>drang</dc:creator>
  <dc:description/>
  <dc:language>en-US</dc:language>
  <cp:lastModifiedBy>Marco</cp:lastModifiedBy>
  <dcterms:modified xsi:type="dcterms:W3CDTF">2013-09-16T19:18:51Z</dcterms:modified>
  <cp:revision>71</cp:revision>
  <dc:subject/>
  <dc:title>Il racconto d’avventura</dc:title>
</cp:coreProperties>
</file>